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402-A414-41FE-AD22-2DBF64AD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B8F-2779-4B27-A7E4-34A570C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D14-9ED5-4C7F-909E-29FDE9B8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77F-BC0A-46A4-9E91-165FDE6B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B533-E4CB-4292-801C-AEDA5F7E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FD33-B1E1-42D2-89CD-6E1A3A38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7A44-5555-4643-9BA2-DD2AE1D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578F-BDEA-4E0A-B675-7EADDB9B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6CE8-DE6E-4381-BBDC-33FA4747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527E-FBFE-46C6-864A-EF06EC2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1259-CA60-4F31-9299-E68A631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CBE-2578-481C-905C-EEC66E94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68CD-ADF2-489B-AB8C-D07476B0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E160-B31B-40CA-BAF6-D9678E1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281E-1E34-43D7-A0BD-2D763F59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02E5-096A-4E74-BC13-19771AFA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1ABD-CE9F-43F1-9FC9-65A1A730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014-8E3D-4F8A-ACEE-A932E87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D72-5B10-4D1B-80F7-86C99078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D00-C2D9-46ED-9CC1-EBA48BE8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754-BDAB-4F86-8796-28765307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024-D9FC-498A-9859-2872FC7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EFD-0A7B-4AFA-9730-5AE0899B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645-EB09-42FE-B7CF-54A10CF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EDCF-843A-412E-93E8-71B75C327A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15E-AA50-4CE7-8F29-F931C05C41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sg/imgres?imgurl=http://www.bonappetit.com/images/tips_tools_ingredients/ingredients/ttar_egg_03_v_launch.jpg&amp;imgrefurl=http://www.bonappetit.com/tipstools/ingredients/2008/04/eggs&amp;usg=__JWBTHqXJC3kXKD0fRv7joOsnjxs=&amp;h=414&amp;w=310&amp;sz=13&amp;hl=en&amp;start=2&amp;um=1&amp;itbs=1&amp;tbnid=kIn0-C3ODZlFJM:&amp;tbnh=125&amp;tbnw=94&amp;prev=/images%3Fq%3Dpicture%2Bof%2Ban%2Begg%26um%3D1%26hl%3Den%26rlz%3D1W1SUNC_en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16765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Dens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57200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4605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Kenneth Tan Jun W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: 1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dex Number: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E: Term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C950-DF00-48EF-AD74-7A1506BCD6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, place a measuring cylinder right below the spout and slowly lower the egg into th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2895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of the egg=volume of the water that flows out of the sp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5053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76920" y="3886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7EA-26FB-44BE-930E-60E981DA75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liqui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eps that have to be taken to find density of water is similar to the steps taken to fin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and the volume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Stock Photography - close-up image &#10;of water in a &#10;measuring cylinder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6781680" y="4800600"/>
            <a:ext cx="1675080" cy="1905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54160" y="541008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625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61B-5CA7-489E-BDEC-D8DC06E851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G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Take the molecular formula weight of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the gas (grams per mole—from the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  periodic tabl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Step 2:Divide that by the standard molar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volume for a gas, which is 22.4 L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SG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per m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46483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7ED-99B4-4E73-ADE4-8E384659D6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04920" y="1523880"/>
          <a:ext cx="8540640" cy="53337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i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n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5409000" y="152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FDD-6D43-43DE-9DF1-A049D18C3E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920" y="1600200"/>
          <a:ext cx="8540640" cy="256860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ine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5409000" y="1600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213372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832-DF20-47BE-9394-07CA308038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quid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04920" y="1523880"/>
          <a:ext cx="8540640" cy="5132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55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rcu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er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a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ure Water( at 4 deg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siu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live O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rpent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coh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"/>
          <p:cNvSpPr/>
          <p:nvPr/>
        </p:nvSpPr>
        <p:spPr>
          <a:xfrm>
            <a:off x="5410080" y="15238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DC9-5F6C-4E85-9480-4C897EC90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ses and their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1680" y="1600200"/>
          <a:ext cx="8540280" cy="4498560"/>
        </p:xfrm>
        <a:graphic>
          <a:graphicData uri="http://schemas.openxmlformats.org/drawingml/2006/table">
            <a:tbl>
              <a:tblPr/>
              <a:tblGrid>
                <a:gridCol w="4269960"/>
                <a:gridCol w="4270320"/>
              </a:tblGrid>
              <a:tr h="44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liu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troge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/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016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4100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D10-7172-4815-A3E9-97AC62D4A5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ating and Sinking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bjects float while others s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ciding factor whether the object floats or sinks is actually den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s that float on water have a lower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 than water, while objects that sin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higher density tha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665-5534-4579-BBD1-932FF2E92C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24480" cy="4194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11720" y="5410080"/>
            <a:ext cx="80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cture of objects that float and sink in water. Objects that float hav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r density than water. While, objects that sink have a higher d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 w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0E5-CFFB-42A6-82F7-22561DB17F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engineeringtoolbox.com/density-specific-weight-gravity-d_29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karentimberlake.com/ppz/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density</a:t>
            </a:r>
            <a:r>
              <a:rPr b="0" i="1" lang="en-SG" sz="3200" spc="-1" strike="noStrike">
                <a:solidFill>
                  <a:srgbClr val="ffffff"/>
                </a:solidFill>
                <a:latin typeface="Tahoma"/>
              </a:rPr>
              <a:t>.ppt</a:t>
            </a: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www.sparknotes.com/testprep/books/sat2/chemistry/chapter5section11.r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Tahoma"/>
              </a:rPr>
              <a:t>http://morrisonlabs.com/density_chart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0BB-E642-4317-846C-B411ED702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n as mass per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measure a material or objects    compact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 of describing mass in a continuous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EBA-002F-4857-B621-852EE2C2AA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2362320"/>
            <a:ext cx="685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Thank you for your 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5800" spc="-1" strike="noStrike">
                <a:solidFill>
                  <a:srgbClr val="ffffff"/>
                </a:solidFill>
                <a:latin typeface="Tahoma"/>
              </a:rPr>
              <a:t>kind atten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E2D-E1F6-472B-9C72-B21A535C26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ors that affect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 of an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state is the object 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solid state, liquid state, gaseous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or irregular 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B72-BED9-4646-A0C3-3BB98E0AB4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s of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unit for Density is kg/m  or g/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housand kilograms per cubic meter equals one gram per cubic centimeter [1000 kg/m = 1 g/cm  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724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85520" y="144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BC4-BB04-4A75-AF40-26FE6C831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ula to finding Den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The mass of iron is 27kg and its volu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3m , find the density of ir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9kg/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4038480" y="2133720"/>
            <a:ext cx="1524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1972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600" y="327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89480" y="3995640"/>
            <a:ext cx="7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7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23200" y="441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09000" y="50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34A-5070-48E6-A3CA-45D3CDA6F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volume of the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ivide the mass of the substance 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619800" cy="2557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473280" y="46483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952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EA5-8D1B-4C82-BFBE-3A567E59FA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 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85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Measure the mass and calcu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dimensions, the volume o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the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Density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4952880"/>
            <a:ext cx="99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5334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43000" y="3429000"/>
            <a:ext cx="6781320" cy="1214280"/>
            <a:chOff x="1143000" y="3429000"/>
            <a:chExt cx="6781320" cy="1214280"/>
          </a:xfrm>
        </p:grpSpPr>
        <p:sp>
          <p:nvSpPr>
            <p:cNvPr id="417" name=""/>
            <p:cNvSpPr/>
            <p:nvPr/>
          </p:nvSpPr>
          <p:spPr>
            <a:xfrm>
              <a:off x="1143000" y="3581280"/>
              <a:ext cx="9140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19160" y="3429000"/>
              <a:ext cx="914040" cy="1214280"/>
            </a:xfrm>
            <a:prstGeom prst="can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5680" y="3581280"/>
              <a:ext cx="914040" cy="914400"/>
            </a:xfrm>
            <a:prstGeom prst="rtTriangl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5880" y="3581280"/>
              <a:ext cx="1828440" cy="91440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6A8-847A-4F5E-A60E-65ADA195E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eps taken to find density of an irregularly shaped objec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place the egg on a measuring scale and you will be able to find the egg’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981440" cy="2971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283-2069-4568-9D69-E7BFB88FDF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, fill the eureka beaker until water starts flowing out of its spout. Allow it to stand until it stops to fl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1981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1280" y="4179960"/>
            <a:ext cx="957240" cy="54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1280" y="4683240"/>
            <a:ext cx="79200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91280" y="3048120"/>
            <a:ext cx="0" cy="11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8280" y="3048120"/>
            <a:ext cx="0" cy="22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1280" y="468324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735280" y="5562720"/>
            <a:ext cx="22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437560" y="5059800"/>
            <a:ext cx="634680" cy="50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07" y="17"/>
                </a:moveTo>
                <a:arcTo wR="10800" hR="10800" stAng="-5206618" swAng="5206618"/>
                <a:lnTo>
                  <a:pt x="10800" y="10800"/>
                </a:lnTo>
                <a:close/>
              </a:path>
              <a:path fill="none" w="21600" h="21600">
                <a:moveTo>
                  <a:pt x="11407" y="17"/>
                </a:moveTo>
                <a:arcTo wR="10800" hR="10800" stAng="-5206618" swAng="5206618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656600" y="5061240"/>
            <a:ext cx="634320" cy="50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437920" y="4648320"/>
            <a:ext cx="285300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48006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495288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510552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257800"/>
            <a:ext cx="28195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5410080"/>
            <a:ext cx="275256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134080" y="2895480"/>
            <a:ext cx="3038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295960" y="290520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7AD-8913-47E1-9801-71C5D6310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7:15:06Z</dcterms:created>
  <dc:creator>Kelvin</dc:creator>
  <dc:description/>
  <dc:language>en-US</dc:language>
  <cp:lastModifiedBy>Kenneth Tan</cp:lastModifiedBy>
  <dcterms:modified xsi:type="dcterms:W3CDTF">2010-04-25T01:48:21Z</dcterms:modified>
  <cp:revision>23</cp:revision>
  <dc:subject/>
  <dc:title>   </dc:title>
</cp:coreProperties>
</file>