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34D-1326-43DB-ABB4-67399993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55D-E042-41D1-A64C-63D85F9A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0D0-78DF-430F-BA77-AA8C6414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342-3BAB-4964-B1E3-2026D206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0E30-F904-4D65-BEEC-2CE57107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B117-7588-49E4-AF01-A4B1B40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5056-4502-4365-B208-869A894A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96A0-64BA-47D4-A1E5-55D4F688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CEF-3F25-4709-80E7-AD0B0D9F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1FE5-5EAA-4F2F-B45D-E1CCBA95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FD9F-64D8-4C48-B858-E6DB68CB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876-A3FA-4379-B79A-81C62DE3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A9B7-6748-4311-BE48-DA5DBA3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8BE3-BC6F-4AAF-A050-D65002D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5E5B-40A1-4689-9E91-FD558624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4E12-4622-4B78-9372-690EA40A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CF9-9751-4477-AE89-D93E6251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BA7-6896-4CB9-A6A4-04776D69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402-0499-40A2-9346-DB70F14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A6D-C053-4053-B21E-8EAF813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F10-FD41-4AEE-ABE3-D893CEB1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535-0CE7-438B-A613-DD2EEE1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2D4-4CFA-4D4D-8260-EAD70E1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8C0-A273-4357-8EE5-0F1EE84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9DFC-CC20-48B9-A343-BDA89D2E74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741-8566-4C6A-9EE5-597151A1F0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bonappetit.com/images/tips_tools_ingredients/ingredients/ttar_egg_03_v_launch.jpg&amp;imgrefurl=http://www.bonappetit.com/tipstools/ingredients/2008/04/eggs&amp;usg=__JWBTHqXJC3kXKD0fRv7joOsnjxs=&amp;h=414&amp;w=310&amp;sz=13&amp;hl=en&amp;start=2&amp;um=1&amp;itbs=1&amp;tbnid=kIn0-C3ODZlFJM:&amp;tbnh=125&amp;tbnw=94&amp;prev=/images%3Fq%3Dpicture%2Bof%2Ban%2Begg%26um%3D1%26hl%3Den%26rlz%3D1W1SUNC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1676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Dens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57200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605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Kenneth Tan Jun W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: 1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ex Number: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: Ter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9AA-03F9-429B-B85A-2CCD73E08F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place a measuring cylinder right below the spout and slowly lower the egg into th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2895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of the egg=volume of the water that flows out of the sp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053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76920" y="3886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281-A9E9-42E8-93AF-E8B6A60B9C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liqui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ps that have to be taken to find density of water is similar to the steps taken to fin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and the volume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Stock Photography - close-up image &#10;of water in a &#10;measuring cylinde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781680" y="4800600"/>
            <a:ext cx="1675080" cy="1905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54160" y="541008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238-2F69-4612-9877-2EA5CE061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G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Take the molecular formula weight of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the gas (grams per mole—from the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periodic tabl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Step 2:Divide that by the standard molar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volume for a gas, which is 22.4 L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per m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EF0-F401-4125-AC28-FEDA9EE252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04920" y="1523880"/>
          <a:ext cx="8540640" cy="53337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n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5409000" y="152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792-9626-40AA-BD33-C6F0AC4505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600200"/>
          <a:ext cx="8540640" cy="256860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ne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5409000" y="16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213372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24B-C156-46A6-83DC-D0050C84F3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qu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04920" y="1523880"/>
          <a:ext cx="8540640" cy="5132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5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e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e Water( at 4 deg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siu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ive O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rpent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co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5410080" y="15238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4C5-30A1-4E7B-8AFE-EDB1F9A80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se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1680" y="1600200"/>
          <a:ext cx="8540280" cy="4498560"/>
        </p:xfrm>
        <a:graphic>
          <a:graphicData uri="http://schemas.openxmlformats.org/drawingml/2006/table">
            <a:tbl>
              <a:tblPr/>
              <a:tblGrid>
                <a:gridCol w="4269960"/>
                <a:gridCol w="4270320"/>
              </a:tblGrid>
              <a:tr h="44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i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troge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16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410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A10-74AA-4C82-B411-3575DFDD82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ating and Sink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bjects float while others s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ciding factor whether the object floats or sinks is actually den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that float on water have a lower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than water, while objects that sin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higher density tha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924-A00C-45AA-AD76-CE0A21E6FB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194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11720" y="5410080"/>
            <a:ext cx="80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objects that float and sink in water. Objects that float hav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r density than water. While, objects that sink have a higher d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C27-B79D-49E0-AC3D-D0BFCBDBE1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engineeringtoolbox.com/density-specific-weight-gravity-d_29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karentimberlake.com/ppz/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density</a:t>
            </a: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.ppt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sparknotes.com/testprep/books/sat2/chemistry/chapter5section11.r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morrisonlabs.com/density_chart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E64-81F2-4422-A5BF-EAD78ED274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n as mass per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easure a material or objects    compact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 of describing mass in a continuous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41E-6B76-452C-AA20-DB32C6176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2362320"/>
            <a:ext cx="685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Thank you for your 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kind atten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2A2-6941-4DC1-912C-DC6A3CC8A8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ors that affect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ate is the object 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solid state, liquid state, gaseous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or irregula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B47-ADD7-4204-B8C8-4A7C5F8CEE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s of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unit for Density is kg/m  or g/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ousand kilograms per cubic meter equals one gram per cubic centimeter [1000 kg/m = 1 g/cm  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72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85520" y="14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04B-C7A7-4A60-9044-BD0C4D668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 to finding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The mass of iron is 27kg and its volu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3m , find the density of ir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9kg/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038480" y="21337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600" y="327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89480" y="399564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320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090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571-1DA7-4FE1-BE32-6D9931500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the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of the substance 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619800" cy="2557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473280" y="46483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952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029-126E-4BDD-857C-87E5490E9C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calc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imensions, the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the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952880"/>
            <a:ext cx="99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5334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43000" y="3429000"/>
            <a:ext cx="6781320" cy="1214280"/>
            <a:chOff x="1143000" y="3429000"/>
            <a:chExt cx="6781320" cy="1214280"/>
          </a:xfrm>
        </p:grpSpPr>
        <p:sp>
          <p:nvSpPr>
            <p:cNvPr id="417" name=""/>
            <p:cNvSpPr/>
            <p:nvPr/>
          </p:nvSpPr>
          <p:spPr>
            <a:xfrm>
              <a:off x="1143000" y="3581280"/>
              <a:ext cx="9140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160" y="3429000"/>
              <a:ext cx="914040" cy="12142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5680" y="3581280"/>
              <a:ext cx="914040" cy="914400"/>
            </a:xfrm>
            <a:prstGeom prst="rtTriangl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5880" y="3581280"/>
              <a:ext cx="18284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22C-86A0-4D42-81DA-42A6BFF92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ir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lace the egg on a measuring scale and you will be able to find the egg’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06E-BCD8-4546-B28E-4EC2C81A9E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, fill the eureka beaker until water starts flowing out of its spout. Allow it to stand until it stops to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1981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1280" y="4179960"/>
            <a:ext cx="957240" cy="54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1280" y="4683240"/>
            <a:ext cx="79200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1280" y="3048120"/>
            <a:ext cx="0" cy="11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3048120"/>
            <a:ext cx="0" cy="22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468324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35280" y="5562720"/>
            <a:ext cx="22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437560" y="5059800"/>
            <a:ext cx="634680" cy="5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07" y="17"/>
                </a:moveTo>
                <a:arcTo wR="10800" hR="10800" stAng="-5206618" swAng="5206618"/>
                <a:lnTo>
                  <a:pt x="10800" y="10800"/>
                </a:lnTo>
                <a:close/>
              </a:path>
              <a:path fill="none" w="21600" h="21600">
                <a:moveTo>
                  <a:pt x="11407" y="17"/>
                </a:moveTo>
                <a:arcTo wR="10800" hR="10800" stAng="-5206618" swAng="520661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656600" y="5061240"/>
            <a:ext cx="634320" cy="5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437920" y="4648320"/>
            <a:ext cx="285300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48006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495288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2578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5410080"/>
            <a:ext cx="275256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4080" y="289548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295960" y="290520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912-3D98-4B9E-8394-08F78A6D16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7:15:06Z</dcterms:created>
  <dc:creator>Kelvin</dc:creator>
  <dc:description/>
  <dc:language>en-US</dc:language>
  <cp:lastModifiedBy>Kenneth Tan</cp:lastModifiedBy>
  <dcterms:modified xsi:type="dcterms:W3CDTF">2010-04-25T01:48:21Z</dcterms:modified>
  <cp:revision>23</cp:revision>
  <dc:subject/>
  <dc:title>   </dc:title>
</cp:coreProperties>
</file>