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9C8-3637-431A-A8C1-B24D5874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CF3-FAF3-409F-A4D1-1D64C926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B65-F82C-489A-BEA1-72F59EAE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7F8-353D-437B-8D57-C6D1B13A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04D3-33A8-41EB-AD56-619C87B1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C7DE-3DE8-41B6-A954-1A01ED4D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ADC7-D0A8-4AD8-ACF5-AE6F0AE1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DC43-50D9-4C3E-A729-1F066F10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ABA2-D3B3-411E-9A85-81893BCF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8CFC-D543-4F87-88DF-FC120654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6987-7614-4521-A047-4AFFE7D8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A18-08DA-4F57-8D7E-A80F6C0E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4E6F-B679-4722-96CC-7D90CBD1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C5AA-F5B3-4390-91D3-F754131C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C313-6AA2-43A9-AA9B-A0120348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7780-98BD-410F-B59F-94A0DCD5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91BE-2967-4925-AD4E-3FB6441F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2CE-4E70-41A8-888C-7FFE2092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CB8-6500-45A5-BBBF-E471B340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1FF7-05B7-4CB6-8756-16C59797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135-2AAB-42FB-B8E6-84C6314C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9C2-C120-420D-8EEC-6D7616F5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BC0-0049-4849-8C43-25687E92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406-7398-4455-99A3-DB286155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9216-42D5-4496-AA46-2E86C8BE37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9ED7-3D13-4163-94CC-5D8C57C0EC5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sg/imgres?imgurl=http://www.bonappetit.com/images/tips_tools_ingredients/ingredients/ttar_egg_03_v_launch.jpg&amp;imgrefurl=http://www.bonappetit.com/tipstools/ingredients/2008/04/eggs&amp;usg=__JWBTHqXJC3kXKD0fRv7joOsnjxs=&amp;h=414&amp;w=310&amp;sz=13&amp;hl=en&amp;start=2&amp;um=1&amp;itbs=1&amp;tbnid=kIn0-C3ODZlFJM:&amp;tbnh=125&amp;tbnw=94&amp;prev=/images%3Fq%3Dpicture%2Bof%2Ban%2Begg%26um%3D1%26hl%3Den%26rlz%3D1W1SUNC_en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167652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ffffff"/>
                </a:solidFill>
                <a:uFillTx/>
                <a:latin typeface="Arial"/>
              </a:rPr>
              <a:t>Dens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4572000"/>
            <a:ext cx="6934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4605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: Kenneth Tan Jun W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: 1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dex Number: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E: Term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D938-B41F-45BB-A20A-4448DA3F9F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, place a measuring cylinder right below the spout and slowly lower the egg into th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1066680" y="2895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 of the egg=volume of the water that flows out of the sp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35053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76920" y="38862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69A-3AFC-485B-847E-702DE594A3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 liquid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eps that have to be taken to find density of water is similar to the steps taken to find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volume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ivide the mass and the volume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" descr="Stock Photography - close-up image &#10;of water in a &#10;measuring cylinder. &#10;fotosearch - search &#10;stock photos, &#10;pictures, images, &#10;and photo clipart"/>
          <p:cNvPicPr/>
          <p:nvPr/>
        </p:nvPicPr>
        <p:blipFill>
          <a:blip r:embed="rId1"/>
          <a:stretch/>
        </p:blipFill>
        <p:spPr>
          <a:xfrm>
            <a:off x="6781680" y="4800600"/>
            <a:ext cx="1675080" cy="19051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854160" y="541008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62520" y="5715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3E4-C631-4413-BA79-4EF70E83D3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G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Take the molecular formula weight of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 the gas (grams per mole—from the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 periodic table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Step 2:Divide that by the standard molar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volume for a gas, which is 22.4 L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per m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46483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2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179-43E0-44E0-97E6-99A9D728BB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04920" y="1523880"/>
          <a:ext cx="8540640" cy="533376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53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i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l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in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"/>
          <p:cNvSpPr/>
          <p:nvPr/>
        </p:nvSpPr>
        <p:spPr>
          <a:xfrm>
            <a:off x="5409000" y="1523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551-72DF-4742-9290-45C79727E9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304920" y="1600200"/>
          <a:ext cx="8540640" cy="256860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ine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"/>
          <p:cNvSpPr/>
          <p:nvPr/>
        </p:nvSpPr>
        <p:spPr>
          <a:xfrm>
            <a:off x="5409000" y="1600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213372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B89-1AF7-498B-B090-3D33B653D0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qu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04920" y="1523880"/>
          <a:ext cx="8540640" cy="513252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55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rc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ycer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a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e Water( at 4 degre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siu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live O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rpent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coh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"/>
          <p:cNvSpPr/>
          <p:nvPr/>
        </p:nvSpPr>
        <p:spPr>
          <a:xfrm>
            <a:off x="5410080" y="152388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DBD-B5B2-4AFE-B811-BC4BAA0F9F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ase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01680" y="1600200"/>
          <a:ext cx="8540280" cy="4498560"/>
        </p:xfrm>
        <a:graphic>
          <a:graphicData uri="http://schemas.openxmlformats.org/drawingml/2006/table">
            <a:tbl>
              <a:tblPr/>
              <a:tblGrid>
                <a:gridCol w="4269960"/>
                <a:gridCol w="4270320"/>
              </a:tblGrid>
              <a:tr h="44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ydr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liu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troge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xy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016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2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5410080" y="1600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04920" y="205740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E97-DA9B-4EE7-88E4-2877020D43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oating and Sinking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bjects float while others sin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ciding factor whether the object floats or sinks is actually dens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s that float on water have a lower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 than water, while objects that sin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 higher density than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E43-666B-4431-A2F7-245D5554D9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324480" cy="4194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711720" y="5410080"/>
            <a:ext cx="800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cture of objects that float and sink in water. Objects that float hav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er density than water. While, objects that sink have a higher den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an w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546-1E1B-4B59-9CEB-274DB6B124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rc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www.engineeringtoolbox.com/density-specific-weight-gravity-d_290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3200" spc="-1" strike="noStrike">
                <a:solidFill>
                  <a:srgbClr val="ffffff"/>
                </a:solidFill>
                <a:latin typeface="Tahoma"/>
              </a:rPr>
              <a:t>karentimberlake.com/ppz/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density</a:t>
            </a:r>
            <a:r>
              <a:rPr b="0" i="1" lang="en-SG" sz="3200" spc="-1" strike="noStrike">
                <a:solidFill>
                  <a:srgbClr val="ffffff"/>
                </a:solidFill>
                <a:latin typeface="Tahoma"/>
              </a:rPr>
              <a:t>.ppt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www.sparknotes.com/testprep/books/sat2/chemistry/chapter5section11.r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morrisonlabs.com/density_chart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E90-1888-47BD-9004-E15A31561E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n as mass per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measure a material or objects    compactn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orm of describing mass in a continuous 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1E77-F998-4B85-BF63-8B3DF78539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1143000" y="2362320"/>
            <a:ext cx="6858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Thank you for your </a:t>
            </a: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kind attention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7CF-895B-43DF-BB5C-AE4C80C24B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ors that affect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 of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 of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 of state is the object 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g. solid state, liquid state, gaseous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ular or irregular sha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A0F-18CD-4081-8878-901DCF9CC7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s of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unit for Density is kg/m  or g/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thousand kilograms per cubic meter equals one gram per cubic centimeter [1000 kg/m = 1 g/cm  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541008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432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4724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85520" y="144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7D2-FA55-4CDA-BBC1-224C568B90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mula to finding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g. The mass of iron is 27kg and its volu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3m , find the density of ir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9kg/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4038480" y="2133720"/>
            <a:ext cx="1524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19720" y="2514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08600" y="3276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389480" y="3995640"/>
            <a:ext cx="7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7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43400" y="4419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23200" y="441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0900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B1A-E2E2-44EB-B0AF-F73A20475F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n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8288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volume of the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sub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ivide the mass of the substance b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s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619800" cy="2557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473280" y="464832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49528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F32-D309-42CA-B915-778C177304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 regularly shaped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85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calcul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dimensions, the volume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the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ensity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3657600" y="4952880"/>
            <a:ext cx="99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733920" y="5334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143000" y="3429000"/>
            <a:ext cx="6781320" cy="1214280"/>
            <a:chOff x="1143000" y="3429000"/>
            <a:chExt cx="6781320" cy="1214280"/>
          </a:xfrm>
        </p:grpSpPr>
        <p:sp>
          <p:nvSpPr>
            <p:cNvPr id="417" name=""/>
            <p:cNvSpPr/>
            <p:nvPr/>
          </p:nvSpPr>
          <p:spPr>
            <a:xfrm>
              <a:off x="1143000" y="3581280"/>
              <a:ext cx="914040" cy="91440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19160" y="3429000"/>
              <a:ext cx="914040" cy="1214280"/>
            </a:xfrm>
            <a:prstGeom prst="can">
              <a:avLst>
                <a:gd name="adj" fmla="val 25000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95680" y="3581280"/>
              <a:ext cx="914040" cy="914400"/>
            </a:xfrm>
            <a:prstGeom prst="rtTriangl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95880" y="3581280"/>
              <a:ext cx="1828440" cy="91440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4AF-864C-4108-97E8-851E783757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n irregularly shaped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place the egg on a measuring scale and you will be able to find the egg’s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8120"/>
            <a:ext cx="1981440" cy="29718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4495680" y="3048120"/>
            <a:ext cx="335304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1DE-9781-4D6E-99D5-93E6E0F75E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, fill the eureka beaker until water starts flowing out of its spout. Allow it to stand until it stops to fl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1981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91280" y="4179960"/>
            <a:ext cx="957240" cy="54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91280" y="4683240"/>
            <a:ext cx="79200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91280" y="3048120"/>
            <a:ext cx="0" cy="11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38280" y="3048120"/>
            <a:ext cx="0" cy="226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91280" y="4683240"/>
            <a:ext cx="0" cy="62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735280" y="5562720"/>
            <a:ext cx="22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2437560" y="5059800"/>
            <a:ext cx="634680" cy="50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07" y="17"/>
                </a:moveTo>
                <a:arcTo wR="10800" hR="10800" stAng="-5206618" swAng="5206618"/>
                <a:lnTo>
                  <a:pt x="10800" y="10800"/>
                </a:lnTo>
                <a:close/>
              </a:path>
              <a:path fill="none" w="21600" h="21600">
                <a:moveTo>
                  <a:pt x="11407" y="17"/>
                </a:moveTo>
                <a:arcTo wR="10800" hR="10800" stAng="-5206618" swAng="5206618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656600" y="5061240"/>
            <a:ext cx="634320" cy="5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437920" y="4648320"/>
            <a:ext cx="285300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480060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438280" y="495288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510552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525780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5410080"/>
            <a:ext cx="275256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134080" y="2895480"/>
            <a:ext cx="3038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295960" y="290520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520-CE21-4816-9954-E9C9960743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7:15:06Z</dcterms:created>
  <dc:creator>Kelvin</dc:creator>
  <dc:description/>
  <dc:language>en-US</dc:language>
  <cp:lastModifiedBy>Kenneth Tan</cp:lastModifiedBy>
  <dcterms:modified xsi:type="dcterms:W3CDTF">2010-04-25T01:48:21Z</dcterms:modified>
  <cp:revision>23</cp:revision>
  <dc:subject/>
  <dc:title>   </dc:title>
</cp:coreProperties>
</file>