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837-194D-4E28-9BA2-1182BDB0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040-EE94-4FA2-96B5-3B82946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96B-483C-4BE7-8CE1-2184CE60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8D9-2DF5-4444-B178-D690896F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5CC0-98C6-4959-9A9D-4F8E2F4A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248-FF12-47EC-A3D8-89243A3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08A-A897-4E50-A862-02F983A2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CC05-994A-4E86-8EE5-FF0BEB4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F03A-15CF-44AC-A732-3C2A644A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C71C-2259-4FF6-826E-2CCC1367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64FB-9167-446F-B1FB-92C4648F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B17-C530-4CF9-ACEF-2274E87D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AEA-EB46-4C5D-A289-2928C5A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3E50-8FF8-445C-BC9D-2458F7A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66B-2E4C-40EE-AAFA-48CF9184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6E62-D33E-47D5-9933-6BFD7AAA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3EFD-FB97-4EB8-8BDC-B42069C3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8CC-89B9-4EB0-A450-71436F12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8CB-3076-44A4-8C18-E5CCC1F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D99-1663-4F3C-8E22-FD6518C2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844-65A3-4A6E-B815-83C48C6B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0FE-49F7-4D31-A5AB-AC78E62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250-7F76-49DC-9517-DCF6E3D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D06-E7E2-4598-826F-BEC54247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678C-8AA9-4A0B-9620-31F0056220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2EDF-BE85-4FE4-BEFD-DB4B4AEE11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bonappetit.com/images/tips_tools_ingredients/ingredients/ttar_egg_03_v_launch.jpg&amp;imgrefurl=http://www.bonappetit.com/tipstools/ingredients/2008/04/eggs&amp;usg=__JWBTHqXJC3kXKD0fRv7joOsnjxs=&amp;h=414&amp;w=310&amp;sz=13&amp;hl=en&amp;start=2&amp;um=1&amp;itbs=1&amp;tbnid=kIn0-C3ODZlFJM:&amp;tbnh=125&amp;tbnw=94&amp;prev=/images%3Fq%3Dpicture%2Bof%2Ban%2Begg%26um%3D1%26hl%3Den%26rlz%3D1W1SUNC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1676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Dens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57200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605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Kenneth Tan Jun W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: 1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ex Number: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: Ter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AA4-6067-46EF-AD67-A79F76C104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place a measuring cylinder right below the spout and slowly lower the egg into th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2895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of the egg=volume of the water that flows out of the sp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6920" y="3886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747-D676-4B0E-B0E9-8C75F308CB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liqui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ps that have to be taken to find density of water is similar to the steps taken to fin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and the volume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Stock Photography - close-up image &#10;of water in a &#10;measuring cylinde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781680" y="4800600"/>
            <a:ext cx="1675080" cy="1905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54160" y="54100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865-4DFC-4FF6-8D9F-2555D8BA2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G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Take the molecular formula weight of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the gas (grams per mole—from the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periodic tabl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Step 2:Divide that by the standard molar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volume for a gas, which is 22.4 L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per m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E1E-5B01-42A7-9EDD-5BBE810A79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04920" y="1523880"/>
          <a:ext cx="8540640" cy="53337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n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5409000" y="152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401-2484-460C-A0F9-DDDD10C7F1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600200"/>
          <a:ext cx="8540640" cy="25686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ne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5409000" y="16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213372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1AC-C3BB-43BE-B5AB-1C5356F5B4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qu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523880"/>
          <a:ext cx="8540640" cy="5132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5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e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e Water( at 4 deg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siu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ve O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rpent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co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5410080" y="15238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CDA-3FBB-4420-BC3B-B4FE299F9E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se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1680" y="1600200"/>
          <a:ext cx="8540280" cy="4498560"/>
        </p:xfrm>
        <a:graphic>
          <a:graphicData uri="http://schemas.openxmlformats.org/drawingml/2006/table">
            <a:tbl>
              <a:tblPr/>
              <a:tblGrid>
                <a:gridCol w="4269960"/>
                <a:gridCol w="4270320"/>
              </a:tblGrid>
              <a:tr h="44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i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trog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16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410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CD6-11C5-4686-9003-B6B3008340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ating and Sink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bjects float while others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ciding factor whether the object floats or sinks is actually den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that float on water have a lower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than water, while objects that sin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higher density tha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CD6-36A2-4ED9-89F5-586661B9C7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194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11720" y="541008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objects that float and sink in water. Objects that float hav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r density than water. While, objects that sink have a higher d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508-88B2-4BBD-9BF4-60E92BB0B0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engineeringtoolbox.com/density-specific-weight-gravity-d_29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karentimberlake.com/ppz/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density</a:t>
            </a: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.ppt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sparknotes.com/testprep/books/sat2/chemistry/chapter5section11.r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morrisonlabs.com/density_char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43C-456F-46D0-AE32-4CA7A08F2C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n as mass per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easure a material or objects    compact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of describing mass in a continuous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3E0-C96D-4C9D-8E55-1997166A4F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2362320"/>
            <a:ext cx="685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Thank you for your 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kind atten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34C-F073-4AFA-9573-0409E29C9F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that affect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ate is the object 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solid state, liquid state, gaseous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or irregula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071-C0B2-4F6A-A5BC-70DEFF9AE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s of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unit for Density is kg/m  or g/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ousand kilograms per cubic meter equals one gram per cubic centimeter [1000 kg/m = 1 g/cm 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72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552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9AD-06B9-4155-A173-1DD428416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 to finding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The mass of iron is 27kg and its volu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3m , find the density of ir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9kg/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21337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600" y="327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89480" y="399564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320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90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340-4044-40B0-8836-C22B07740E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the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of the substance 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619800" cy="255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73280" y="46483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64A-190A-49BF-8F51-0D61CB7F1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calc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imensions, the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the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952880"/>
            <a:ext cx="99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43000" y="3429000"/>
            <a:ext cx="6781320" cy="1214280"/>
            <a:chOff x="1143000" y="3429000"/>
            <a:chExt cx="6781320" cy="1214280"/>
          </a:xfrm>
        </p:grpSpPr>
        <p:sp>
          <p:nvSpPr>
            <p:cNvPr id="417" name=""/>
            <p:cNvSpPr/>
            <p:nvPr/>
          </p:nvSpPr>
          <p:spPr>
            <a:xfrm>
              <a:off x="1143000" y="3581280"/>
              <a:ext cx="9140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160" y="3429000"/>
              <a:ext cx="914040" cy="12142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3581280"/>
              <a:ext cx="914040" cy="914400"/>
            </a:xfrm>
            <a:prstGeom prst="rtTriangl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5880" y="3581280"/>
              <a:ext cx="18284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F0F-DC71-4AE6-ADE7-0D2B491DA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ir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lace the egg on a measuring scale and you will be able to find the egg’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53C-093A-4199-B36A-9110DCCED2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, fill the eureka beaker until water starts flowing out of its spout. Allow it to stand until it stops to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1981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1280" y="4179960"/>
            <a:ext cx="957240" cy="54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1280" y="4683240"/>
            <a:ext cx="7920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048120"/>
            <a:ext cx="0" cy="11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3048120"/>
            <a:ext cx="0" cy="22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468324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35280" y="556272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437560" y="5059800"/>
            <a:ext cx="634680" cy="5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07" y="17"/>
                </a:moveTo>
                <a:arcTo wR="10800" hR="10800" stAng="-5206618" swAng="5206618"/>
                <a:lnTo>
                  <a:pt x="10800" y="10800"/>
                </a:lnTo>
                <a:close/>
              </a:path>
              <a:path fill="none" w="21600" h="21600">
                <a:moveTo>
                  <a:pt x="11407" y="17"/>
                </a:moveTo>
                <a:arcTo wR="10800" hR="10800" stAng="-5206618" swAng="52066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656600" y="5061240"/>
            <a:ext cx="634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37920" y="4648320"/>
            <a:ext cx="28530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48006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95288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2578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410080"/>
            <a:ext cx="27525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4080" y="289548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95960" y="290520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EDD-14EE-4C30-9C4D-4A9EBCEA0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7:15:06Z</dcterms:created>
  <dc:creator>Kelvin</dc:creator>
  <dc:description/>
  <dc:language>en-US</dc:language>
  <cp:lastModifiedBy>Kenneth Tan</cp:lastModifiedBy>
  <dcterms:modified xsi:type="dcterms:W3CDTF">2010-04-25T01:48:21Z</dcterms:modified>
  <cp:revision>23</cp:revision>
  <dc:subject/>
  <dc:title>   </dc:title>
</cp:coreProperties>
</file>